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6951663" cy="5029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A6E7-2D3F-4DC9-BF0A-327542F94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DF7F-588F-49C5-90C7-E8A01585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B6B8-AD3F-42BF-8D8F-C83ACB9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7F75-F588-44D2-A570-14756BE0B5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22356-2355-4D0B-AB90-A1AF0419B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1B780-295E-4465-AACD-97EDC938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DBA5F-519E-4A5A-A608-1A0771D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AAA84-C8F0-417F-809B-B7DC2B01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1DF16-02B0-4E2E-84EB-054196DB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7490C-38CE-407E-89FD-29A221E0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93F13-7BAC-4200-A05F-6C41D13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9CED-9EEB-45A5-A812-C39DBE12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AB22F-44F9-4A95-8570-2B1B640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044A8-1513-4ADB-8BE2-242D137A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28CC5-0B44-4DD0-85C9-15A657E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1D979-ADA9-49AE-BFE9-E524E537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69F5B-1579-4482-A372-CF28D9770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C1B68-3D06-4D9E-82CF-DD2B1D95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B1697-C2FF-4A24-8190-013C3C8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6BACD-F9C6-4105-AF34-FD004D0E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58AC7-18B5-44D1-AAEC-4E761F9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8EF35-12A6-4827-B395-3F12845F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20CC-34E3-43F5-9E52-1CC0BAC5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83A96F-FE51-41A6-A834-3F9F337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0DBC2-4748-4140-B221-7718160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516E19-A442-43F5-ACD0-2F8B97B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B7EF4-6A31-4D09-B03B-76DE810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84311-D952-44AD-9290-8151B3F2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1B691C-48C4-4728-A56F-F05702E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A48DF-14F4-4F72-8C3F-B6D310DA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8D5B-70CF-48FD-87C2-19A55D20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8505-AA08-46AD-A3FA-5D5E3D3C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5099-2660-47CA-B309-8910BEFA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D972-C02C-492B-9C00-A45D8CA4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A9A8-F791-423D-8A2C-57E3325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3911F-16DD-4390-B553-C6CB6471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CBE8-A483-414B-BA3D-341F17752D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0" y="-128520"/>
            <a:ext cx="6950160" cy="522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Picture 13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B7F-7D95-4666-8F2C-F68E80319D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8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1722240" y="4660560"/>
            <a:ext cx="32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PTEMBER 201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7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FD41-1C77-4EAE-9836-62294E7D8B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5400" y="0"/>
            <a:ext cx="6584760" cy="3494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br>
              <a:rPr sz="33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RESA/DOE</a:t>
            </a:r>
            <a:br>
              <a:rPr sz="27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UMMER INSTITUTE</a:t>
            </a:r>
            <a:br>
              <a:rPr sz="2700"/>
            </a:br>
            <a:r>
              <a:rPr b="1" lang="en-US" sz="2700" spc="-1" strike="noStrike">
                <a:solidFill>
                  <a:srgbClr val="ffc000"/>
                </a:solidFill>
                <a:latin typeface="Calibri"/>
              </a:rPr>
              <a:t>COMMON CORE GEORGIA PERFORMANCE STANDARDS: STRATEGIES TO MEET THE INCREASED WRITING DEMANDS IN CCGPS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6400" y="3200400"/>
            <a:ext cx="5631120" cy="12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rald Boyd, Susan Jac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orgia Department of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nglish Language Ar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s this always a 4-page paper? Is it always even a paper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7760" y="1173240"/>
            <a:ext cx="6254640" cy="24480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group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multi-media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writer’s worksh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peer review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 the amount of feedback you provi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wo: Fudge the Number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unit plans specify the low-end of the suggested requirements: 4 analy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of these is a group or multimedia project, then there are 3 full essays to be considered per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us, thankfully, do not really have 150 student cohorts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7760" y="11916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hree: Vary Your Rubrics</a:t>
            </a:r>
            <a:br>
              <a:rPr sz="33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focus on specific skill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3577" t="31563" r="50949" b="8490"/>
          <a:stretch/>
        </p:blipFill>
        <p:spPr>
          <a:xfrm>
            <a:off x="1763640" y="941400"/>
            <a:ext cx="31496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Rubrics: Continued…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13213" t="28091" r="50949" b="8197"/>
          <a:stretch/>
        </p:blipFill>
        <p:spPr>
          <a:xfrm>
            <a:off x="1635120" y="868320"/>
            <a:ext cx="349092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 grading conven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groups of 3-4, take 3 minutes to scan the paper provided to you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spot-determination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S/ORGANIZATION/STYLE/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score between 1 and 5 in each domain and an overall score between 1 and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discuss your determin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 general consensus as to which papers were better? Therefore, would a round-table or even an individual spot grade be valid occasion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paper 2, repeat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rigor in the text-based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-Class vs. Outside-of-Class Writing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5160" y="1606320"/>
            <a:ext cx="2016000" cy="1995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" descr="https://encrypted-tbn0.google.com/images?q=tbn:ANd9GcTTrGXyXCpUxMcgKTRamTsyYyygpPRjt-ouu7GlVuLsXNSgGQYzBA"/>
          <p:cNvPicPr/>
          <p:nvPr/>
        </p:nvPicPr>
        <p:blipFill>
          <a:blip r:embed="rId1"/>
          <a:stretch/>
        </p:blipFill>
        <p:spPr>
          <a:xfrm>
            <a:off x="3529080" y="23623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7760" y="15685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avid Coleman, CCSS Author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on Analytical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4760" y="340920"/>
            <a:ext cx="6254640" cy="3862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How Can W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erald Boy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san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gboyd@doe.k12.ga.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jacobs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617-71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im Jeffcoa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niel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jeffcoat@doe.k12.ga.u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ock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463-19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0-617-9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 ELA HOMEPAGE: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595959"/>
                </a:solidFill>
                <a:uFillTx/>
                <a:latin typeface="Calibri"/>
              </a:rPr>
              <a:t>http://public.doe.k12.ga.us/ci_services.aspx?PageReq=CIServEngli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270400" y="4660920"/>
            <a:ext cx="81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95D5-ECFE-4BE3-A9D5-A9B13238A0BF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MULTITASKING</a:t>
            </a:r>
            <a:br>
              <a:rPr sz="33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re is a limit to what you can do!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https://encrypted-tbn1.google.com/images?q=tbn:ANd9GcRzft4tQLSiP35YLcOjcXHFFdsg0qC7RnAsDu4w5zb01zP-9i7fMw"/>
          <p:cNvPicPr/>
          <p:nvPr/>
        </p:nvPicPr>
        <p:blipFill>
          <a:blip r:embed="rId1"/>
          <a:stretch/>
        </p:blipFill>
        <p:spPr>
          <a:xfrm>
            <a:off x="2376360" y="12351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riting and Proposed Assessment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831600"/>
            <a:ext cx="438156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6000"/>
          </a:bodyPr>
          <a:p>
            <a:pPr marL="245160" indent="-24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posed PARCC Assessment System will be designed to measure knowledge, skills and understandings essential to achieving college and career readiness. In ELA/Literacy, these include the following areas as defined by the standar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160" indent="-24516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Susan Jacobs\Local Settings\Temporary Internet Files\Content.IE5\IW4UR388\MC900412754[1].wmf"/>
          <p:cNvPicPr/>
          <p:nvPr/>
        </p:nvPicPr>
        <p:blipFill>
          <a:blip r:embed="rId1"/>
          <a:stretch/>
        </p:blipFill>
        <p:spPr>
          <a:xfrm>
            <a:off x="4417920" y="858960"/>
            <a:ext cx="22179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t is All About the Evidence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4720" y="960120"/>
            <a:ext cx="421488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4000"/>
          </a:bodyPr>
          <a:p>
            <a:pPr marL="2160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riting effectively when using and/or analyzing sources: This requires students to demonstrate the interrelated literacy activities of reading, gathering evidence about what is read, and analyzing and presenting that evidence in writ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C:\Documents and Settings\Susan Jacobs\Local Settings\Temporary Internet Files\Content.IE5\E5W1HYZX\MP900402892[1].jpg"/>
          <p:cNvPicPr/>
          <p:nvPr/>
        </p:nvPicPr>
        <p:blipFill>
          <a:blip r:embed="rId1"/>
          <a:stretch/>
        </p:blipFill>
        <p:spPr>
          <a:xfrm>
            <a:off x="5322960" y="2660760"/>
            <a:ext cx="13460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2680"/>
            <a:ext cx="6254640" cy="73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hat is PARCC?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nership for Assessment of Readiness for College and Careers (PARCC) is a consortium of states working together to develop a common set of K-12 assessments in English and math anchored in what it takes to be ready for college and care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10680" t="25190" r="58733" b="63519"/>
          <a:stretch/>
        </p:blipFill>
        <p:spPr>
          <a:xfrm>
            <a:off x="2133720" y="1025640"/>
            <a:ext cx="264132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ample Suggested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22083" t="30982" r="19453" b="12543"/>
          <a:stretch/>
        </p:blipFill>
        <p:spPr>
          <a:xfrm>
            <a:off x="277920" y="1044720"/>
            <a:ext cx="61783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Oval 4"/>
          <p:cNvSpPr/>
          <p:nvPr/>
        </p:nvSpPr>
        <p:spPr>
          <a:xfrm>
            <a:off x="3176640" y="1376280"/>
            <a:ext cx="730080" cy="2835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4332240" y="1690560"/>
            <a:ext cx="692280" cy="728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Straight Connector 7"/>
          <p:cNvSpPr/>
          <p:nvPr/>
        </p:nvSpPr>
        <p:spPr>
          <a:xfrm flipH="1">
            <a:off x="4405320" y="1717560"/>
            <a:ext cx="582480" cy="684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PARCC Recommended Writing Guidelines by Grade Level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https://encrypted-tbn1.google.com/images?q=tbn:ANd9GcQHNuFfRR-qE3P1weptcKaQoTPJF_kCAO9s_XO3oUV3vZTGhsMn"/>
          <p:cNvPicPr/>
          <p:nvPr/>
        </p:nvPicPr>
        <p:blipFill>
          <a:blip r:embed="rId1"/>
          <a:stretch/>
        </p:blipFill>
        <p:spPr>
          <a:xfrm>
            <a:off x="2558880" y="1528920"/>
            <a:ext cx="17053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Let’s Crunch the Numbers: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987720" y="1146240"/>
            <a:ext cx="2652840" cy="22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04920" y="923760"/>
            <a:ext cx="35924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c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Students x  6 Analysis essays = 900 essay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ages each = 36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nutes per page = 7200 minut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0 minutes = 120 hour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IMPOSSIB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One: Define “Analysis”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the author, title of the work, etc., and major claim or thesis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n explanation of how the author develops and supports the major claim (thesis state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statement of the author's purpose, followed by an "in order to" phr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description of the intended audience and/or the relationship the author establishes with the aud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23:23Z</dcterms:created>
  <dc:creator>Missy Smith</dc:creator>
  <dc:description/>
  <dc:language>en-US</dc:language>
  <cp:lastModifiedBy>Susan Jacobs</cp:lastModifiedBy>
  <dcterms:modified xsi:type="dcterms:W3CDTF">2012-07-11T16:54:34Z</dcterms:modified>
  <cp:revision>368</cp:revision>
  <dc:subject/>
  <dc:title>PowerPoint Presentation</dc:title>
</cp:coreProperties>
</file>